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720263" cy="7196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207-D642-49E2-98BF-26C37E62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41598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0EA-2C97-4573-95C3-96501632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872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ADF-58C7-4E47-A826-7BDA092A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240" y="16794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240" y="4159800"/>
            <a:ext cx="281700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AA2-537D-48CB-ABBC-1535C4F3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CAF-9C91-4C7E-A5C7-85C8875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E41-287F-47CA-8BC2-3DC1FFB2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8B4-32FA-43E6-A0CA-F98599C2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E11-3D2C-4FE9-BA74-85114DE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88720"/>
            <a:ext cx="874872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4BE-8C29-49D3-ACC5-41F04F3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5A1-6CBB-4B80-B51B-331EA48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8720" y="41598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803-FAC1-40FE-8554-B55D4FA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8720" y="1679400"/>
            <a:ext cx="426924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4159800"/>
            <a:ext cx="8748720" cy="2264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4A5-2FC7-4B81-A1E9-2BD3511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88720"/>
            <a:ext cx="8748720" cy="1198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679400"/>
            <a:ext cx="8748720" cy="4748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55272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4037B-3303-4093-ADDF-FFD995564F6B}" type="datetime3">
              <a:rPr b="0" lang="en-US" sz="15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655272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5640" y="6552720"/>
            <a:ext cx="226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6811C-8292-4B58-8A46-A78C1DDA6D5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0082160" cy="721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1870200"/>
            <a:ext cx="4905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225"/>
                  </a:solidFill>
                  <a:miter/>
                </a:ln>
                <a:solidFill>
                  <a:srgbClr val="00543e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"Тайната градина" </a:t>
            </a:r>
            <a:endParaRPr b="0" lang="en-US" sz="2400" spc="1" strike="noStrike">
              <a:ln w="9360">
                <a:solidFill>
                  <a:srgbClr val="003225"/>
                </a:solidFill>
                <a:miter/>
              </a:ln>
              <a:solidFill>
                <a:srgbClr val="00543e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10404360" cy="723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112680"/>
            <a:ext cx="10549080" cy="730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68360" y="2878200"/>
            <a:ext cx="3240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225"/>
                  </a:solidFill>
                  <a:miter/>
                </a:ln>
                <a:solidFill>
                  <a:srgbClr val="00543e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с. Тъжа</a:t>
            </a:r>
            <a:endParaRPr b="0" lang="en-US" sz="2400" spc="1" strike="noStrike">
              <a:ln w="9360">
                <a:solidFill>
                  <a:srgbClr val="003225"/>
                </a:solidFill>
                <a:miter/>
              </a:ln>
              <a:solidFill>
                <a:srgbClr val="00543e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550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440720" cy="719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350360" cy="739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468360" y="-195120"/>
            <a:ext cx="10415520" cy="73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6f6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10117080" cy="723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44000" cy="7234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04360" cy="720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117080" cy="723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188720" cy="723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d2d4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725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33080" cy="72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1a3"/>
            </a:gs>
            <a:gs pos="100000">
              <a:srgbClr val="afb57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585440" cy="731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24000" y="-258840"/>
            <a:ext cx="10512720" cy="745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8:10:45Z</dcterms:created>
  <dc:creator>andrea</dc:creator>
  <dc:description/>
  <dc:language>en-US</dc:language>
  <cp:lastModifiedBy>bb000843</cp:lastModifiedBy>
  <cp:lastPrinted>2010-03-04T11:23:46Z</cp:lastPrinted>
  <dcterms:modified xsi:type="dcterms:W3CDTF">2011-05-27T06:29:15Z</dcterms:modified>
  <cp:revision>67</cp:revision>
  <dc:subject/>
  <dc:title>Presentazione di PowerPoint</dc:title>
</cp:coreProperties>
</file>