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720263" cy="71961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9FB-48DC-4B25-B768-EE973AE7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679400"/>
            <a:ext cx="874872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4159800"/>
            <a:ext cx="874872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2F6-307A-4916-9373-3EDF9870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679400"/>
            <a:ext cx="426924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8720" y="1679400"/>
            <a:ext cx="426924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4159800"/>
            <a:ext cx="426924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8720" y="4159800"/>
            <a:ext cx="426924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ECFB-64FB-4E03-B89A-3C18D213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679400"/>
            <a:ext cx="281700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3760" y="1679400"/>
            <a:ext cx="281700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240" y="1679400"/>
            <a:ext cx="281700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4159800"/>
            <a:ext cx="281700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3760" y="4159800"/>
            <a:ext cx="281700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240" y="4159800"/>
            <a:ext cx="281700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FB8-C699-4958-9780-668D87FC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679400"/>
            <a:ext cx="874872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F56-9333-4657-A358-4E6F8DA5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679400"/>
            <a:ext cx="8748720" cy="4748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BFA-6545-4501-8C8E-BC6667AF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679400"/>
            <a:ext cx="4269240" cy="4748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8720" y="1679400"/>
            <a:ext cx="4269240" cy="4748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E088-17F5-4A44-910F-1F4F99EF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4F0-47AF-45E6-8EFA-F4DEB512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88720"/>
            <a:ext cx="8748720" cy="55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82C-7673-46CB-8FEF-808FF284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679400"/>
            <a:ext cx="426924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8720" y="1679400"/>
            <a:ext cx="4269240" cy="4748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4159800"/>
            <a:ext cx="426924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EE8-1D98-4FF4-8D66-90E1A28C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679400"/>
            <a:ext cx="4269240" cy="4748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8720" y="1679400"/>
            <a:ext cx="426924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8720" y="4159800"/>
            <a:ext cx="426924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5DFD-DF35-4BE5-8389-96CAF0AE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679400"/>
            <a:ext cx="426924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8720" y="1679400"/>
            <a:ext cx="426924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4159800"/>
            <a:ext cx="874872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5FC3-7AF7-46F5-826E-144C60FF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1a3"/>
            </a:gs>
            <a:gs pos="100000">
              <a:srgbClr val="afb57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679400"/>
            <a:ext cx="8748720" cy="4748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031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6552720"/>
            <a:ext cx="226872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FB546-FF6B-44FF-A67D-0B26818136D0}" type="datetime3">
              <a:rPr b="0" lang="en-US" sz="15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0640" y="6552720"/>
            <a:ext cx="307836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5640" y="6552720"/>
            <a:ext cx="226836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5DBB1-551A-4144-9C4A-E635B2442727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1a3"/>
            </a:gs>
            <a:gs pos="100000">
              <a:srgbClr val="afb57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10082160" cy="721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1870200"/>
            <a:ext cx="49053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225"/>
                  </a:solidFill>
                  <a:miter/>
                </a:ln>
                <a:solidFill>
                  <a:srgbClr val="00543e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"Тайната градина" </a:t>
            </a:r>
            <a:endParaRPr b="0" lang="en-US" sz="2400" spc="1" strike="noStrike">
              <a:ln w="9360">
                <a:solidFill>
                  <a:srgbClr val="003225"/>
                </a:solidFill>
                <a:miter/>
              </a:ln>
              <a:solidFill>
                <a:srgbClr val="00543e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36360"/>
            <a:ext cx="10404360" cy="7232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-112680"/>
            <a:ext cx="10549080" cy="730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268360" y="2878200"/>
            <a:ext cx="32403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225"/>
                  </a:solidFill>
                  <a:miter/>
                </a:ln>
                <a:solidFill>
                  <a:srgbClr val="00543e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с. Тъжа</a:t>
            </a:r>
            <a:endParaRPr b="0" lang="en-US" sz="2400" spc="1" strike="noStrike">
              <a:ln w="9360">
                <a:solidFill>
                  <a:srgbClr val="003225"/>
                </a:solidFill>
                <a:miter/>
              </a:ln>
              <a:solidFill>
                <a:srgbClr val="00543e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24000" y="6550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1a3"/>
            </a:gs>
            <a:gs pos="100000">
              <a:srgbClr val="afb57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440720" cy="7196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0350360" cy="739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468360" y="-195120"/>
            <a:ext cx="10415520" cy="739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a6f6"/>
            </a:gs>
            <a:gs pos="100000">
              <a:srgbClr val="afb57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10117080" cy="723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1a3"/>
            </a:gs>
            <a:gs pos="100000">
              <a:srgbClr val="afb57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44000" cy="7234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04360" cy="720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117080" cy="7237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188720" cy="723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3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1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d2d4"/>
            </a:gs>
            <a:gs pos="100000">
              <a:srgbClr val="afb57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33080" cy="7250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33080" cy="727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2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1a3"/>
            </a:gs>
            <a:gs pos="100000">
              <a:srgbClr val="afb57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585440" cy="731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-324000" y="-258840"/>
            <a:ext cx="10512720" cy="745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08:10:45Z</dcterms:created>
  <dc:creator>andrea</dc:creator>
  <dc:description/>
  <dc:language>en-US</dc:language>
  <cp:lastModifiedBy>bb000843</cp:lastModifiedBy>
  <cp:lastPrinted>2010-03-04T11:23:46Z</cp:lastPrinted>
  <dcterms:modified xsi:type="dcterms:W3CDTF">2011-05-27T06:29:15Z</dcterms:modified>
  <cp:revision>67</cp:revision>
  <dc:subject/>
  <dc:title>Presentazione di PowerPoint</dc:title>
</cp:coreProperties>
</file>